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F2C-28A0-46B3-A3E6-16169B03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1D9-0822-4F8B-BCA6-68F74A81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27D-CA66-4DB9-BE39-46EF0245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82F-A409-413F-ADFD-69A59D56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86B-6C2C-445A-83FA-4495E06E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B06-7056-4B97-98DA-FEA23356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892-0EB1-4CC6-8F9B-C1DC4958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68C-D725-4E86-9872-46B3CEC7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89A-4B1A-4B41-9F8F-3E98D6C6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85CD-90E9-4868-8B12-B036B7EA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343-47E7-43CF-98EC-88F4D0B6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704F-CB38-403A-9355-8D1A9127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B732-DC9E-4659-AC65-205F2FCE3FCF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Calibri"/>
              </a:rPr>
              <a:t>Coastal Transportation And Deposit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ongshore Dri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Material is moved along the coastline by the wav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Waves will often approach the coast at an angle, carrying material with them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s is carried up on to the beach by the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wash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material is then dragged out to sea by the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backwash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 but this time it travels at right angles to the beach, as it will roll down the steepest gradient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s movement will slowly transport material laterally along the coast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ongshore Dri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upload.wikimedia.org/wikipedia/commons/thumb/f/fb/Longshore_drift.svg/800px-Longshore_drift.svg.png"/>
          <p:cNvPicPr/>
          <p:nvPr/>
        </p:nvPicPr>
        <p:blipFill>
          <a:blip r:embed="rId1"/>
          <a:stretch/>
        </p:blipFill>
        <p:spPr>
          <a:xfrm>
            <a:off x="155520" y="2133720"/>
            <a:ext cx="88981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diment 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shore drift is the overall process of transportation, however the material actually moves through the four transportation processes seen in riv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se depend on the size of sedi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diment 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) Traction - the rolling of large material along the sea floor by the wa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) Saltation - the bouncing of slightly lighter material along the sea flo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) Suspension - Small particles of material carried by th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) Solution - Material is dissolved and carried by th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astal De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cess associated with constructive wa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 is dropped by waves once they lose energy, either by rolling up a beach or where a river estuary causes a disruption to the normal movement of material along the co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s features such as beaches, spits, bars and tombol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3:43:49Z</dcterms:created>
  <dc:creator>Dell_02</dc:creator>
  <dc:description/>
  <dc:language>en-US</dc:language>
  <cp:lastModifiedBy>Dell_02</cp:lastModifiedBy>
  <dcterms:modified xsi:type="dcterms:W3CDTF">2011-01-26T23:50:24Z</dcterms:modified>
  <cp:revision>1</cp:revision>
  <dc:subject/>
  <dc:title>Coastal Transportation And Deposition</dc:title>
</cp:coreProperties>
</file>